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117-B950-459F-A288-ED31339FC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5B9-F218-4E0C-8BE7-25248813A4E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28B3-37FB-446F-B1C1-0350BC985A8E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D91B-F124-427B-BF89-AF27AC23E04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47AA-C902-4325-B3C5-4094A15C620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7639-04A0-4AF0-A114-37355AACDAF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C4B-D7B7-4937-8FBE-4CD6D32BFE4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1342-E629-4957-B991-EACCBFD70B9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825D-4F17-400E-AD5E-35ABBD7FA84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B1A6-845B-456B-9532-21BC5437D39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3925-3D79-4658-91CD-606F9E8FFCF6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C5A4-6F7D-44F8-AD81-3E5C98186781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BF27-13C2-4B25-BCFD-C49E083BAE4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36F-98F8-4700-B3F1-0D711AFCB73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7DED-5B92-4D51-A63D-A1AAC3D8A2A3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C10C-B6B2-43C8-BFC9-F517F061EB9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E6BF-DC69-41F2-B75B-4273A97392C9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3D4F-5229-4BA4-8D16-F3D34AC3753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D461-39E6-4243-BEE7-33D4EA52E20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2240-2262-4EEE-8BE1-E7A789277CFB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4FCE-50CB-490B-9ACA-A9FB67A86122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2B45-8F52-4241-92C2-699F3057CE08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2D76-63A9-466A-BE86-9B3B1625614C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A319-EE1B-4DFC-99A1-2CC997A561FF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0442-8C13-4D22-A24E-B2389F03C897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E5BE-7FA8-4A2D-90AF-38A80B061230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93B2-BF86-4E11-BE59-F95E4C16CB74}" type="slidenum">
              <a:rPr b="0" lang="en-US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056-5879-40E2-B792-2FDD71FD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8CC-A839-4036-9744-D62F3EF0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943-88A9-47B8-AB8D-7D41E419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79D-4095-4273-95E3-4851A1D8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2CA9-80C4-4265-B3B3-F5CDF38E9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C423-6D8D-4B81-91CF-BE94AF2F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FAD5-6EE3-489D-99A5-35BB55D8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7B66-5A8F-4170-B429-E72BC2DE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ABE6-4A38-4DE4-A51C-F660C515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C8B2-4575-40CE-87EB-9C4E120A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B59A-E177-4415-8493-49CD8A2F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269-2414-4664-B4E8-07CCEDE1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41E5-6A10-4B88-9513-33BE126F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D16A-2C07-4280-A1EF-CE4D3D7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6905-4F7B-4F45-87AD-253FA59B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0F36-0798-4756-B544-283545BA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C176-DCD7-430E-9198-0ACC875EF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6641-4BB2-4E49-AABD-F10F3627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659-39AD-47D4-B723-9010B9C0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9E99-7485-4218-817A-478C0B70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F3D-1E38-4C41-862A-BFF8F4C9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E0F-88A1-432F-ABE8-62AFDDF4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DDC-918F-4490-930B-1AA6A4A3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F0C-661F-4B9F-886F-724A70D1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1150920" y="1676520"/>
            <a:ext cx="6697800" cy="12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13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3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466B-3CFF-44EB-A6A2-98DF41A8D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d22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C5DE-F5AE-4F2A-8339-A1CC8047EDCB}" type="slidenum">
              <a:rPr b="0" lang="en-US" sz="1400" spc="-1" strike="noStrike">
                <a:solidFill>
                  <a:srgbClr val="5d220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7524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2204"/>
                </a:solidFill>
                <a:latin typeface="Arial"/>
              </a:rPr>
              <a:t>Empires of the Americas Review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220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ore Inca achievement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nother Inca achievement was the developed a system of road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7" name="Picture 5" descr="empi-incatrail-l"/>
          <p:cNvPicPr/>
          <p:nvPr/>
        </p:nvPicPr>
        <p:blipFill>
          <a:blip r:embed="rId1"/>
          <a:stretch/>
        </p:blipFill>
        <p:spPr>
          <a:xfrm>
            <a:off x="4648320" y="2274840"/>
            <a:ext cx="38098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ztec Calendar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Aztec developed a calendar so they knew when to perform religious ceremonie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0" name="Picture 5" descr="aztec"/>
          <p:cNvPicPr/>
          <p:nvPr/>
        </p:nvPicPr>
        <p:blipFill>
          <a:blip r:embed="rId1"/>
          <a:stretch/>
        </p:blipFill>
        <p:spPr>
          <a:xfrm>
            <a:off x="4648320" y="2127240"/>
            <a:ext cx="38098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mathematic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yan mathematics was based on the number 20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system included the use of glyphs, or picture writing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Slash and Burn Agricultur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Mayan farmers practiced slash-and-burn agriculture. They cut down and burned trees, then used the ash for fertilizer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Terra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Mayas also cut terraces into the sides of mountains to make farming easier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27" name="Picture 5" descr="AncientAmericaIncasTerraces"/>
          <p:cNvPicPr/>
          <p:nvPr/>
        </p:nvPicPr>
        <p:blipFill>
          <a:blip r:embed="rId1"/>
          <a:stretch/>
        </p:blipFill>
        <p:spPr>
          <a:xfrm>
            <a:off x="4648320" y="260820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ztec capital city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city the Aztecs built in the Valley of Mexico was called Tenochtitlan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hinampa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Aztecs living around Tenochtitlan need to develop the farming of chinampas because they built Tenochtitlan on a lake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2" name="Picture 5" descr="chinampa"/>
          <p:cNvPicPr/>
          <p:nvPr/>
        </p:nvPicPr>
        <p:blipFill>
          <a:blip r:embed="rId1"/>
          <a:stretch/>
        </p:blipFill>
        <p:spPr>
          <a:xfrm>
            <a:off x="4648320" y="268920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uzco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capital of the Inca empire was called Cuzco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nca communication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Inca used runners as messengers so they could communicate over long distance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nca religious belief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Inca believed that their leaders were direct descendants of sun god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39" name="Picture 5" descr="est20"/>
          <p:cNvPicPr/>
          <p:nvPr/>
        </p:nvPicPr>
        <p:blipFill>
          <a:blip r:embed="rId1"/>
          <a:stretch/>
        </p:blipFill>
        <p:spPr>
          <a:xfrm>
            <a:off x="4897440" y="19810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ztec and Inca similariti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oth the Aztec and Inca had complex religious ceremoni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Both were conquered by the Spanish with help from people they had conquered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Aztecs were conquered by Cort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Incas were conquered by Pizzar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 population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ajority of the Maya people were peasant farmers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Achievemen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ayan made grade advancements in the science of astronomy (the study of the stars)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ayans also built pyramids, much like the Egyptians did. (So did the Inca)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religious practic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Mayans believed that the Gods required sacrifices to keep them happy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ball gam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Mayans had a ball game that resembles our game of soccer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Often at the end of the game the losers were sacrificed.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48" name="Picture 5" descr="mayanball"/>
          <p:cNvPicPr/>
          <p:nvPr/>
        </p:nvPicPr>
        <p:blipFill>
          <a:blip r:embed="rId1"/>
          <a:stretch/>
        </p:blipFill>
        <p:spPr>
          <a:xfrm>
            <a:off x="4648320" y="2584440"/>
            <a:ext cx="38098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ayamap"/>
          <p:cNvPicPr/>
          <p:nvPr/>
        </p:nvPicPr>
        <p:blipFill>
          <a:blip r:embed="rId1"/>
          <a:stretch/>
        </p:blipFill>
        <p:spPr>
          <a:xfrm>
            <a:off x="3581280" y="380880"/>
            <a:ext cx="5362560" cy="5791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320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re were most of the May settlements locate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Where is Macchu Piccu located?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52" name="Picture 5" descr="incaempiremap"/>
          <p:cNvPicPr/>
          <p:nvPr/>
        </p:nvPicPr>
        <p:blipFill>
          <a:blip r:embed="rId1"/>
          <a:stretch/>
        </p:blipFill>
        <p:spPr>
          <a:xfrm>
            <a:off x="3848040" y="0"/>
            <a:ext cx="4389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incachart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Aztec K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Aztec king that was conquered by Cortes was Montezuma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99" name="Picture 5" descr="jun30montezuma"/>
          <p:cNvPicPr/>
          <p:nvPr/>
        </p:nvPicPr>
        <p:blipFill>
          <a:blip r:embed="rId1"/>
          <a:stretch/>
        </p:blipFill>
        <p:spPr>
          <a:xfrm>
            <a:off x="4962600" y="1981080"/>
            <a:ext cx="318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Inca King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Inca king that was conquered by Pizzaro was Atahualpa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2" name="Picture 5" descr="atahualpa"/>
          <p:cNvPicPr/>
          <p:nvPr/>
        </p:nvPicPr>
        <p:blipFill>
          <a:blip r:embed="rId1"/>
          <a:stretch/>
        </p:blipFill>
        <p:spPr>
          <a:xfrm>
            <a:off x="4984920" y="1981080"/>
            <a:ext cx="313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n god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Maya worshipped more than 160 gods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5" name="Picture 5" descr="mayan_glyphs"/>
          <p:cNvPicPr/>
          <p:nvPr/>
        </p:nvPicPr>
        <p:blipFill>
          <a:blip r:embed="rId1"/>
          <a:stretch/>
        </p:blipFill>
        <p:spPr>
          <a:xfrm>
            <a:off x="4267080" y="1828800"/>
            <a:ext cx="3940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Maya, Aztec, and Inca civilization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All three complex architectural structures like pyramids and temp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y were polytheistic, believing in many gods 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ere did the Inca come from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09" name="Picture 4" descr="inca"/>
          <p:cNvPicPr/>
          <p:nvPr/>
        </p:nvPicPr>
        <p:blipFill>
          <a:blip r:embed="rId1"/>
          <a:stretch/>
        </p:blipFill>
        <p:spPr>
          <a:xfrm>
            <a:off x="2743200" y="1828800"/>
            <a:ext cx="3608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Where did the Aztec come from?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e valley of Mexic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Quipu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164"/>
                </a:solidFill>
                <a:latin typeface="Arial"/>
              </a:rPr>
              <a:t>The accounting system of the Inca that involved tying knots in rope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4" name="Picture 5" descr="quipu2"/>
          <p:cNvPicPr/>
          <p:nvPr/>
        </p:nvPicPr>
        <p:blipFill>
          <a:blip r:embed="rId1"/>
          <a:stretch/>
        </p:blipFill>
        <p:spPr>
          <a:xfrm>
            <a:off x="4648320" y="2335320"/>
            <a:ext cx="38098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01:54:31Z</dcterms:created>
  <dc:creator>Jeff Kash</dc:creator>
  <dc:description/>
  <dc:language>en-US</dc:language>
  <cp:lastModifiedBy>Tim</cp:lastModifiedBy>
  <dcterms:modified xsi:type="dcterms:W3CDTF">2011-09-23T04:43:03Z</dcterms:modified>
  <cp:revision>11</cp:revision>
  <dc:subject/>
  <dc:title>Empires of the Americas Review</dc:title>
</cp:coreProperties>
</file>